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9392-346B-43A1-AB52-37088D5DA4D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8F91-929D-4260-B0CE-1616F78752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98B-F878-4AD7-88B0-60F7449A0B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F08-C4D2-42A0-AB9A-563A9BB524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0DF-C9B5-4EC5-8B74-222446E08C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A7FC-0B00-41F6-BD4F-21DF0559D9E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311-05DF-47A3-AA0A-2669143CE8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9BB-D0E1-4B13-8A32-97B8D46D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448-6EBD-486A-B567-BE6120F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8E1-3F1E-4147-ABC6-90AA272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A6D-4794-4202-9625-B05623CC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546-17FB-4C62-8297-EDE4F25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640-E809-4E83-8ECF-8BA25DD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AC6-1F0F-4ED8-9486-5FC5C05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37-23B9-48F8-80FD-8C87F90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96A-AB1C-4A61-9950-EBFC43AC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DB7-0136-4A77-95E3-EA7D2CD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5C3-2B3B-4C4E-8D00-3C483BC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ED9-35E3-457A-86DF-0E9C439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C64-F51D-418A-988E-6EFC2D3E853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609480" y="2575080"/>
            <a:ext cx="2590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nosotros, nosotra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vosotros, vosotra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25750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á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baj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934320" y="259092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í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9933ff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5410080" y="2590920"/>
            <a:ext cx="1143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é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1447200" y="1523880"/>
            <a:ext cx="64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BAJA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E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PRESENT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2895840" y="1660680"/>
            <a:ext cx="32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PRESENT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666880" y="2666880"/>
            <a:ext cx="3849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o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er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él, ella, usted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nosotros, nosotra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vosotros, vosotra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ellos, ellas, ustede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s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438280" y="990720"/>
            <a:ext cx="42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OS ADJETIV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56" name="Group 43"/>
          <p:cNvGrpSpPr/>
          <p:nvPr/>
        </p:nvGrpSpPr>
        <p:grpSpPr>
          <a:xfrm>
            <a:off x="2628000" y="1600200"/>
            <a:ext cx="3925080" cy="398880"/>
            <a:chOff x="2628000" y="1600200"/>
            <a:chExt cx="3925080" cy="398880"/>
          </a:xfrm>
        </p:grpSpPr>
        <p:sp>
          <p:nvSpPr>
            <p:cNvPr id="57" name="Rectangle 5"/>
            <p:cNvSpPr/>
            <p:nvPr/>
          </p:nvSpPr>
          <p:spPr>
            <a:xfrm>
              <a:off x="5105520" y="16002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femenino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2628000" y="1600200"/>
              <a:ext cx="143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masculino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59" name="Rectangle 22"/>
          <p:cNvSpPr/>
          <p:nvPr/>
        </p:nvSpPr>
        <p:spPr>
          <a:xfrm>
            <a:off x="5222520" y="1996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mpáti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2770920" y="199692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mpáti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3144960" y="426708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sculino y femenin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005360" y="5743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l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á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2937960" y="234648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2725200" y="2698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baj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r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878920" y="30481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án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881800" y="340848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5387760" y="2340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ua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5100120" y="26892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baj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r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5257080" y="3040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5253840" y="3392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an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343680" y="4664160"/>
            <a:ext cx="24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esan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inteligen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98080" y="5022720"/>
            <a:ext cx="13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lg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el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498840" y="537840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simis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bromis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660680" y="157176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 padre / mi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699280" y="99072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ES FAMILIAR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820760" y="157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is padre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834800" y="19335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us hermano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834800" y="2319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us hijos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660680" y="5618160"/>
            <a:ext cx="336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ompañero de clase. 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ompañera de trabajo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664280" y="193680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u hermano / tu herman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1664280" y="2317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 hijo / su hija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1979640" y="28954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ES ENTRE LAS PERSONA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684440" y="3484440"/>
            <a:ext cx="15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¿Quién es?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663920" y="3941640"/>
            <a:ext cx="2415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hermano mayor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cuñada Pepa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655640" y="47768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migo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ío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amig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í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962520" y="176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4343400" y="213372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3352680" y="2514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00200" y="10663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RES CONJUGACIONES DE LOS VERB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042000" y="19810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042000" y="228600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habl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3042000" y="2590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565880" y="1981080"/>
            <a:ext cx="5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65880" y="228600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corr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4566240" y="2590920"/>
            <a:ext cx="6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ten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5937120" y="19810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5936760" y="228600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viv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5937480" y="2590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dec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99" name="Group 50"/>
          <p:cNvGrpSpPr/>
          <p:nvPr/>
        </p:nvGrpSpPr>
        <p:grpSpPr>
          <a:xfrm>
            <a:off x="3040200" y="1600200"/>
            <a:ext cx="3962160" cy="380880"/>
            <a:chOff x="3040200" y="1600200"/>
            <a:chExt cx="3962160" cy="380880"/>
          </a:xfrm>
        </p:grpSpPr>
        <p:sp>
          <p:nvSpPr>
            <p:cNvPr id="100" name="Rectangle 11"/>
            <p:cNvSpPr/>
            <p:nvPr/>
          </p:nvSpPr>
          <p:spPr>
            <a:xfrm>
              <a:off x="304020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A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456408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E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5935680" y="160020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-I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03" name="Group 49"/>
          <p:cNvGrpSpPr/>
          <p:nvPr/>
        </p:nvGrpSpPr>
        <p:grpSpPr>
          <a:xfrm>
            <a:off x="762120" y="3336840"/>
            <a:ext cx="6305760" cy="2519640"/>
            <a:chOff x="762120" y="3336840"/>
            <a:chExt cx="6305760" cy="2519640"/>
          </a:xfrm>
        </p:grpSpPr>
        <p:sp>
          <p:nvSpPr>
            <p:cNvPr id="104" name="Text Box 4"/>
            <p:cNvSpPr/>
            <p:nvPr/>
          </p:nvSpPr>
          <p:spPr>
            <a:xfrm>
              <a:off x="762120" y="3666960"/>
              <a:ext cx="21333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</a:rPr>
                <a:t>(t</a:t>
              </a: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ú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él, ella, usted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nosotros, nosotra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vosotros, vosotra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ellos, ellas, ustedes)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3034440" y="33368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TUDIA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552920" y="33368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LEE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07" name="Rectangle 30"/>
            <p:cNvSpPr/>
            <p:nvPr/>
          </p:nvSpPr>
          <p:spPr>
            <a:xfrm>
              <a:off x="5928480" y="33368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CRIBIR</a:t>
              </a:r>
              <a:endParaRPr b="0" lang="en-US" sz="16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08" name="Rectangle 31"/>
          <p:cNvSpPr/>
          <p:nvPr/>
        </p:nvSpPr>
        <p:spPr>
          <a:xfrm>
            <a:off x="3032640" y="36860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033720" y="40384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3032280" y="43959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3037680" y="47689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3039120" y="5129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ái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3035880" y="55022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33ff"/>
                </a:solidFill>
                <a:latin typeface="Arial"/>
              </a:rPr>
              <a:t>estudi</a:t>
            </a:r>
            <a:r>
              <a:rPr b="1" lang="es-ES_tradnl" sz="1600" spc="-1" strike="noStrike">
                <a:solidFill>
                  <a:srgbClr val="9933ff"/>
                </a:solidFill>
                <a:latin typeface="Arial"/>
              </a:rPr>
              <a:t>a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4551840" y="3689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550040" y="40384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4565880" y="4395960"/>
            <a:ext cx="4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556880" y="4776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558320" y="5129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éi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4566240" y="55022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Arial"/>
              </a:rPr>
              <a:t>le</a:t>
            </a: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e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5928120" y="36892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5929560" y="40384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5936040" y="43959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925240" y="47642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mo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5930640" y="51292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ís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937840" y="55022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scrib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n</a:t>
            </a:r>
            <a:endParaRPr b="0" lang="en-US" sz="16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2133720" y="1828800"/>
            <a:ext cx="4114800" cy="3463560"/>
            <a:chOff x="2133720" y="1828800"/>
            <a:chExt cx="4114800" cy="3463560"/>
          </a:xfrm>
        </p:grpSpPr>
        <p:sp>
          <p:nvSpPr>
            <p:cNvPr id="127" name="Rectangle 5"/>
            <p:cNvSpPr/>
            <p:nvPr/>
          </p:nvSpPr>
          <p:spPr>
            <a:xfrm>
              <a:off x="2133720" y="1828800"/>
              <a:ext cx="4114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L VERB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ENER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2362320" y="2575080"/>
              <a:ext cx="26668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(t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ú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él, ella, usted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nosotros, nosotra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vosotros, vosotra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ellos, ellas, ustedes)</a:t>
              </a:r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5166360" y="2571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go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174280" y="3032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1735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166000" y="39466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emo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174280" y="4403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enéis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165280" y="4861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tienen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35360" y="5409720"/>
            <a:ext cx="364968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marroq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81440" y="99072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BLAR DE LA NACIONALIDAD Y DE LA PROCEDENCIA</a:t>
            </a:r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676520" y="1644480"/>
            <a:ext cx="6095880" cy="946440"/>
            <a:chOff x="1676520" y="1644480"/>
            <a:chExt cx="6095880" cy="946440"/>
          </a:xfrm>
        </p:grpSpPr>
        <p:sp>
          <p:nvSpPr>
            <p:cNvPr id="138" name="Rectangle 5"/>
            <p:cNvSpPr/>
            <p:nvPr/>
          </p:nvSpPr>
          <p:spPr>
            <a:xfrm>
              <a:off x="1676520" y="1644480"/>
              <a:ext cx="3016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AÍ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¿De dónde eres / es usted?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Chileno.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De Chile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937040" y="1644480"/>
              <a:ext cx="283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UDAD O PUEBL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¿De dónde eres / es usted?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>
                <a:buSzPct val="10295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De Santiago de Chile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40" name="Rectangle 7"/>
          <p:cNvSpPr/>
          <p:nvPr/>
        </p:nvSpPr>
        <p:spPr>
          <a:xfrm>
            <a:off x="813240" y="3697200"/>
            <a:ext cx="337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stria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sue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norue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hondureñ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720" y="4359240"/>
            <a:ext cx="27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CONSONANTE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emá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francé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portugué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743000" y="3697200"/>
            <a:ext cx="334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ABADOS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ustria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suec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norue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hondureñ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431160" y="510552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A SOLA FORMA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838080" y="3200400"/>
            <a:ext cx="7391520" cy="346680"/>
            <a:chOff x="838080" y="3200400"/>
            <a:chExt cx="7391520" cy="346680"/>
          </a:xfrm>
        </p:grpSpPr>
        <p:sp>
          <p:nvSpPr>
            <p:cNvPr id="145" name="Rectangle 11"/>
            <p:cNvSpPr/>
            <p:nvPr/>
          </p:nvSpPr>
          <p:spPr>
            <a:xfrm>
              <a:off x="1949760" y="324000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SCULIN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5873400" y="324000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838080" y="35434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838080" y="320040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49" name="Group 26"/>
          <p:cNvGrpSpPr/>
          <p:nvPr/>
        </p:nvGrpSpPr>
        <p:grpSpPr>
          <a:xfrm>
            <a:off x="838080" y="4359240"/>
            <a:ext cx="7391520" cy="662040"/>
            <a:chOff x="838080" y="4359240"/>
            <a:chExt cx="7391520" cy="662040"/>
          </a:xfrm>
        </p:grpSpPr>
        <p:sp>
          <p:nvSpPr>
            <p:cNvPr id="150" name="Rectangle 10"/>
            <p:cNvSpPr/>
            <p:nvPr/>
          </p:nvSpPr>
          <p:spPr>
            <a:xfrm>
              <a:off x="5023800" y="4359240"/>
              <a:ext cx="279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ÑADEN UN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leman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franc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portugu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838080" y="5021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52" name="Rectangle 24"/>
          <p:cNvSpPr/>
          <p:nvPr/>
        </p:nvSpPr>
        <p:spPr>
          <a:xfrm>
            <a:off x="2683080" y="2798640"/>
            <a:ext cx="34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G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A NACIONALIDADES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832120" y="566748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-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caragü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canadi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400" spc="-1" strike="noStrike">
              <a:solidFill>
                <a:srgbClr val="9933ff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838080" y="5927760"/>
            <a:ext cx="7391520" cy="372960"/>
            <a:chOff x="838080" y="5927760"/>
            <a:chExt cx="7391520" cy="372960"/>
          </a:xfrm>
        </p:grpSpPr>
        <p:sp>
          <p:nvSpPr>
            <p:cNvPr id="155" name="Line 17"/>
            <p:cNvSpPr/>
            <p:nvPr/>
          </p:nvSpPr>
          <p:spPr>
            <a:xfrm>
              <a:off x="838080" y="630072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9933ff"/>
                </a:solidFill>
                <a:latin typeface="Arial"/>
              </a:endParaRPr>
            </a:p>
          </p:txBody>
        </p:sp>
        <p:sp>
          <p:nvSpPr>
            <p:cNvPr id="156" name="Rectangle 28"/>
            <p:cNvSpPr/>
            <p:nvPr/>
          </p:nvSpPr>
          <p:spPr>
            <a:xfrm>
              <a:off x="2837880" y="5927760"/>
              <a:ext cx="227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elg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croat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grpSp>
        <p:nvGrpSpPr>
          <p:cNvPr id="157" name="Group 32"/>
          <p:cNvGrpSpPr/>
          <p:nvPr/>
        </p:nvGrpSpPr>
        <p:grpSpPr>
          <a:xfrm>
            <a:off x="6118200" y="5313240"/>
            <a:ext cx="2209320" cy="444600"/>
            <a:chOff x="6118200" y="5313240"/>
            <a:chExt cx="2209320" cy="444600"/>
          </a:xfrm>
        </p:grpSpPr>
        <p:pic>
          <p:nvPicPr>
            <p:cNvPr id="158" name="Picture 30" descr="bolo info"/>
            <p:cNvPicPr/>
            <p:nvPr/>
          </p:nvPicPr>
          <p:blipFill>
            <a:blip r:embed="rId6"/>
            <a:stretch/>
          </p:blipFill>
          <p:spPr>
            <a:xfrm>
              <a:off x="6118200" y="5313240"/>
              <a:ext cx="5108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31"/>
            <p:cNvSpPr/>
            <p:nvPr/>
          </p:nvSpPr>
          <p:spPr>
            <a:xfrm>
              <a:off x="6575040" y="5389560"/>
              <a:ext cx="1752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lural: iran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íe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/iran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ís</a:t>
              </a:r>
              <a:endParaRPr b="0" lang="en-US" sz="1200" spc="-1" strike="noStrike">
                <a:solidFill>
                  <a:srgbClr val="9933ff"/>
                </a:solidFill>
                <a:latin typeface="Arial"/>
              </a:endParaRPr>
            </a:p>
          </p:txBody>
        </p:sp>
      </p:grpSp>
      <p:sp>
        <p:nvSpPr>
          <p:cNvPr id="160" name="Line 33"/>
          <p:cNvSpPr/>
          <p:nvPr/>
        </p:nvSpPr>
        <p:spPr>
          <a:xfrm>
            <a:off x="525780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9:59:18Z</dcterms:created>
  <dc:creator>Bibiana</dc:creator>
  <dc:description/>
  <dc:language>en-US</dc:language>
  <cp:lastModifiedBy>Susana</cp:lastModifiedBy>
  <cp:lastPrinted>2007-06-19T13:42:41Z</cp:lastPrinted>
  <dcterms:modified xsi:type="dcterms:W3CDTF">2015-10-13T07:39:45Z</dcterms:modified>
  <cp:revision>141</cp:revision>
  <dc:subject/>
  <dc:title>Χωρίς τίτλο διαφάνειας</dc:title>
</cp:coreProperties>
</file>